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570-4198-497D-B79C-A7798C41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802-0D82-49B7-B582-F418511D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62D-5EE0-484B-A536-25CAC124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C5E-E4DC-4BFF-96CD-7BDA31E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263-6E58-4CA1-ADEC-188B347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0E9-1FF3-4F25-BAE4-907ADB4C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E5C-09C2-4279-AB69-061DFE9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042-403C-4C1A-8BFB-1CA1062B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C1-CDC6-45D1-9F9A-1B7C10B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0E1-A8A3-4D74-875B-C519D7BC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C56-938E-48DF-B5BB-40BEA3D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37B-031E-4A45-9030-74DBC0E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646-F064-4A1E-938F-A0DD451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E50-03F0-4A2D-8A9D-8A19B93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3EE-186D-416D-B345-4D072BFF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ccess to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rectly related to the number of people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 related to the number of peopl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ex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exag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2_14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malls near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 malls near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_01"/>
          <p:cNvPicPr/>
          <p:nvPr/>
        </p:nvPicPr>
        <p:blipFill>
          <a:blip r:embed="rId1"/>
          <a:stretch/>
        </p:blipFill>
        <p:spPr>
          <a:xfrm>
            <a:off x="685800" y="520560"/>
            <a:ext cx="79246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rease agricultural 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Increase agricultural 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cess to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5:51Z</dcterms:modified>
  <cp:revision>83</cp:revision>
  <dc:subject/>
  <dc:title>CRS Chapter 4</dc:title>
</cp:coreProperties>
</file>